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FE00B-62F2-4217-846E-11A49BFCC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247D2-3296-4086-89B3-98893695E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57BCE-6E0F-4052-AE74-9FD081514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2DBB1-22C0-4087-8410-242C9B7F8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8E0CA-5FF3-46CB-8314-E9CBFC34B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F0EB0-C045-4D6C-B0D5-57EAAC764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D7FEB-666D-42E7-8346-27B92A385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6A921-E6C0-405C-A395-6B7EDF29B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9B24A-313E-437D-A878-FB11D2275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D1DB7-2F5E-46C4-8409-2F8C3939E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9190D-0823-4C0A-B157-D7559C3DF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10B68-9728-4167-A569-CDB071EAC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3D880-6C98-4820-B9DC-433C5ADCB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ED097-2C76-4D51-B5D3-3C6148CD8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B138F-4CC8-4DC1-BC0F-89939B475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3699C-D85F-44E5-9498-4DC37622B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2BB11-17E1-40E0-85B4-B687699A9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C8EDE-01F4-46D3-84C3-77B64171C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2B29A-4F87-458C-8F75-C62EC335E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A1BC4-84F4-44F9-817A-DA7AB6D68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FBD34-41E5-4DA4-96B1-44901D94A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BD983-A7E7-4221-B870-8990CCE13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81C2-F689-4A77-8E29-77A85DEF1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278B4-790F-4C15-B41C-25A2C5C31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3F9C-63BC-495D-B68C-E81F8BD369A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53EB-A308-4128-AB2B-FD4301E7F31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36232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cc00"/>
                </a:solidFill>
                <a:latin typeface="Arial Black"/>
              </a:rPr>
              <a:t>Zakon o evidencijama u oblasti zdravstvene zaštite</a:t>
            </a:r>
            <a:r>
              <a:rPr b="0" lang="en-US" sz="4000" spc="-1" strike="noStrike">
                <a:solidFill>
                  <a:srgbClr val="ffffff"/>
                </a:solidFill>
                <a:latin typeface="Arial Black"/>
              </a:rPr>
              <a:t> </a:t>
            </a:r>
            <a:endParaRPr b="0" lang="en-US" sz="4000" spc="-1" strike="noStrike">
              <a:solidFill>
                <a:srgbClr val="ffffff"/>
              </a:solidFill>
              <a:latin typeface="Arial Black"/>
            </a:endParaRPr>
          </a:p>
        </p:txBody>
      </p:sp>
      <p:sp>
        <p:nvSpPr>
          <p:cNvPr id="351" name="PlaceHolder 2"/>
          <p:cNvSpPr>
            <a:spLocks noGrp="1"/>
          </p:cNvSpPr>
          <p:nvPr>
            <p:ph type="subTitle"/>
          </p:nvPr>
        </p:nvSpPr>
        <p:spPr>
          <a:xfrm>
            <a:off x="1371600" y="5181120"/>
            <a:ext cx="6400800" cy="838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Ass dr Zorana Deljanin</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6. knjigu evidencije o:</a:t>
            </a:r>
            <a:endParaRPr b="0" lang="en-US" sz="22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a) delatnostima u vezi sa planiranjem porodice - zdravstvena organizacija koja obavlja ovu delatnost;</a:t>
            </a:r>
            <a:endParaRPr b="0" lang="en-US" sz="22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b) porođajima - zdravstvena organizacija koja obezbeđuje stručnu pomoć pri porođaju;</a:t>
            </a:r>
            <a:endParaRPr b="0" lang="en-US" sz="22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v) prekidima trudnoće - zdravstvena organizacija u kojoj se vrši veštački prekid trudnoće;</a:t>
            </a:r>
            <a:endParaRPr b="0" lang="en-US" sz="22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g) deci sa smetnjama u psihofizičkom razvoju - dom zdravlja u oblasti zdravstvene zaštite dece;</a:t>
            </a:r>
            <a:endParaRPr b="0" lang="en-US" sz="22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d) radnicima koji rade na poslovima i zadacima pod posebnim uslovima rada - dom zdravlja ili druga zdravstvena organizacija koja obavlja zdravstvenu delatnost u oblasti medicine rada;</a:t>
            </a:r>
            <a:endParaRPr b="0" lang="en-US" sz="22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đ) radnicima obolelim od profesionalne bolesti - dom zdravlja ili druga zdravstvena organizacija koja obavlja zdravstvenu delatnost u oblasti medicine rada;</a:t>
            </a:r>
            <a:endParaRPr b="0" lang="en-US" sz="22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e) licima na stacionarnom lečenju, porođaju ili rehabilitaciji za lica čije je prebivalište, odnosno mesto rada na teritoriji na kojoj dom zdravlja obavlja delatnost - dom zdravlja u oblasti zdravstvene statistike;</a:t>
            </a:r>
            <a:endParaRPr b="0" lang="en-US" sz="2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c00"/>
                </a:solidFill>
                <a:latin typeface="Arial Black"/>
              </a:rPr>
              <a:t>ž) prikupljanju, odnosno prikupljanju i preradi krvi - zdravstvena organizacija koja se bavi prikupljanjem, odnosno prikupljanjem i preradom krvi;</a:t>
            </a:r>
            <a:endParaRPr b="0" lang="en-US" sz="2100" spc="-1" strike="noStrike">
              <a:solidFill>
                <a:srgbClr val="ffcc00"/>
              </a:solidFill>
              <a:latin typeface="Arial Black"/>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c00"/>
                </a:solidFill>
                <a:latin typeface="Arial Black"/>
              </a:rPr>
              <a:t>z) primanju i izdavanju opojnih droga - apoteka ili druga zdravstvena organizacija koja nabavlja i u okviru svoje delatnosti se bavi izdavanjem opojnih droga;</a:t>
            </a:r>
            <a:endParaRPr b="0" lang="en-US" sz="2100" spc="-1" strike="noStrike">
              <a:solidFill>
                <a:srgbClr val="ffcc00"/>
              </a:solidFill>
              <a:latin typeface="Arial Black"/>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c00"/>
                </a:solidFill>
                <a:latin typeface="Arial Black"/>
              </a:rPr>
              <a:t>i) uživaocima opojnih droga - zdravstvena organizacija koja utvrdi zavisnost lica od opojnih droga;</a:t>
            </a:r>
            <a:endParaRPr b="0" lang="en-US" sz="2100" spc="-1" strike="noStrike">
              <a:solidFill>
                <a:srgbClr val="ffcc00"/>
              </a:solidFill>
              <a:latin typeface="Arial Black"/>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c00"/>
                </a:solidFill>
                <a:latin typeface="Arial Black"/>
              </a:rPr>
              <a:t>j) zaraznim bolestima - zdravstvena organizacija koja utvrdi zaraznu bolest;</a:t>
            </a:r>
            <a:endParaRPr b="0" lang="en-US" sz="2100" spc="-1" strike="noStrike">
              <a:solidFill>
                <a:srgbClr val="ffcc00"/>
              </a:solidFill>
              <a:latin typeface="Arial Black"/>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c00"/>
                </a:solidFill>
                <a:latin typeface="Arial Black"/>
              </a:rPr>
              <a:t>k) stanju i merama zaštite i unapređenju čovekove sredine - organ uprave nadležan za poslove sanitarne inspekcije, zdravstvena organizacija i druga organizacija udruženog rada, koja se u okviru svoje delatnosti bavi problemima zaštite vazduha, voda, zemljišta, ljudske i stočne hrane od jonizujućih zračenja i drugih štetnih materija, pojava i uzročnika koji ugrožavaju zdravlje ili život ljudi;</a:t>
            </a:r>
            <a:endParaRPr b="0" lang="en-US" sz="2100" spc="-1" strike="noStrike">
              <a:solidFill>
                <a:srgbClr val="ffcc00"/>
              </a:solidFill>
              <a:latin typeface="Arial Black"/>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c00"/>
                </a:solidFill>
                <a:latin typeface="Arial Black"/>
              </a:rPr>
              <a:t>l) zdravstvenoj ispravnosti životnih namirnica i predmeta opšte upotrebe - zdravstvena organizacija i druga organizacija udruženog rada koja vrši laboratorijske i druge analize radi utvrđivanja zdravstvene ispravnosti životnih namirnica, odnosno predmeta opšte upotrebe.</a:t>
            </a:r>
            <a:endParaRPr b="0" lang="en-US" sz="21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7. karton o potrošnji leka - apoteka ili druga zdravstvena organizacija koja se u okviru svoje delatnosti bavi izdavanjem, odnosno potrošnjom lekova.</a:t>
            </a:r>
            <a:endParaRPr b="0" lang="en-US" sz="2200" spc="-1" strike="noStrike">
              <a:solidFill>
                <a:srgbClr val="ffcc00"/>
              </a:solidFill>
              <a:latin typeface="Arial Black"/>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ffcc00"/>
                </a:solidFill>
                <a:latin typeface="Arial Black"/>
              </a:rPr>
              <a:t>    </a:t>
            </a:r>
            <a:r>
              <a:rPr b="1" lang="en-US" sz="2200" spc="-1" strike="noStrike">
                <a:solidFill>
                  <a:srgbClr val="ffcc00"/>
                </a:solidFill>
                <a:latin typeface="Arial Black"/>
              </a:rPr>
              <a:t>Knjiga evidencije iz stava 1. tačka 6. pod e) ovog člana, vodi se na osnovu primljenog primerka otpusne liste sa epikrizom, od stacionarne zdravstvene organizacije u kojoj su ta lica bila na lečenju, porođaju ili rehabilitaciji.</a:t>
            </a:r>
            <a:endParaRPr b="0" lang="en-US" sz="2200" spc="-1" strike="noStrike">
              <a:solidFill>
                <a:srgbClr val="ffcc00"/>
              </a:solidFill>
              <a:latin typeface="Arial Black"/>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ffcc00"/>
                </a:solidFill>
                <a:latin typeface="Arial Black"/>
              </a:rPr>
              <a:t>    </a:t>
            </a:r>
            <a:r>
              <a:rPr b="1" lang="en-US" sz="2200" spc="-1" strike="noStrike">
                <a:solidFill>
                  <a:srgbClr val="ffcc00"/>
                </a:solidFill>
                <a:latin typeface="Arial Black"/>
              </a:rPr>
              <a:t>Otpusna lista sa epikrizom iz stava 2. ovog člana čuva se u zdravstvenom kartonu lečenog lica, odnosno porodilje.</a:t>
            </a:r>
            <a:endParaRPr b="0" lang="en-US" sz="2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Član 9</a:t>
            </a:r>
            <a:endParaRPr b="0" lang="en-US" sz="26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fcc00"/>
                </a:solidFill>
                <a:latin typeface="Arial Black"/>
              </a:rPr>
              <a:t>   </a:t>
            </a:r>
            <a:r>
              <a:rPr b="1" lang="en-US" sz="2400" spc="-1" strike="noStrike">
                <a:solidFill>
                  <a:srgbClr val="ffcc00"/>
                </a:solidFill>
                <a:latin typeface="Arial Black"/>
              </a:rPr>
              <a:t>Zdravstvene organizacije vode sledeća pomoćna sredstva za vođenje evidencija, i to:</a:t>
            </a: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1. registar kartoteke - zdravstvena organizacija koja vodi zdravstvene kartone;</a:t>
            </a: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2. dnevnu evidenciju o posetama i radu - zdravstvena organizacija koja pruža vanbolničku zdravstvenu zaštitu, kao i specijalističke i dispanzerske službe;</a:t>
            </a: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3. tekuću evidenciju o utvrđenim oboljenjima i stanjima - zdravstvena organizacija koja vodi zdravstvene kartone;</a:t>
            </a: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4. dnevnu evidenciju o kretanju bolesnika u bolnici - stacionaru - zdravstvena organizacija za lica koja se u njoj nalaze na stacionarnom lečenju, porođaju ili rehabilitaciji.</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10</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fcc00"/>
                </a:solidFill>
                <a:latin typeface="Arial Black"/>
              </a:rPr>
              <a:t>   </a:t>
            </a:r>
            <a:r>
              <a:rPr b="1" lang="en-US" sz="2400" spc="-1" strike="noStrike">
                <a:solidFill>
                  <a:srgbClr val="ffcc00"/>
                </a:solidFill>
                <a:latin typeface="Arial Black"/>
              </a:rPr>
              <a:t>Republički organ uprave nadležan za poslove zdravlja, po prethodno pribavljenom mišljenju Republičke samoupravne interesne zajednice zdravstvene zaštite (dalje: Republička zajednica), propisaće oblike i sadržinu osnovne medicinske dokumentacije i pomoćnih sredstava za vođenje evidencija, oblike i sadržinu izveštaja utvrđenih ovim zakonom, kao i način upisivanja podataka i sastavljanja izveštaj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I</a:t>
            </a:r>
            <a:r>
              <a:rPr b="1" lang="sr-Latn-RS" sz="2600" spc="-1" strike="noStrike">
                <a:solidFill>
                  <a:srgbClr val="ffcc00"/>
                </a:solidFill>
                <a:latin typeface="Arial Black"/>
              </a:rPr>
              <a:t>V </a:t>
            </a:r>
            <a:r>
              <a:rPr b="1" lang="en-US" sz="2600" spc="-1" strike="noStrike">
                <a:solidFill>
                  <a:srgbClr val="ffcc00"/>
                </a:solidFill>
                <a:latin typeface="Arial Black"/>
              </a:rPr>
              <a:t>DOSTAVLJANJE IZVEŠTAJA</a:t>
            </a: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cc00"/>
                </a:solidFill>
                <a:latin typeface="Arial Black"/>
              </a:rPr>
              <a:t>   </a:t>
            </a:r>
            <a:endParaRPr b="0" lang="en-US" sz="18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11</a:t>
            </a: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fcc00"/>
                </a:solidFill>
                <a:latin typeface="Arial Black"/>
              </a:rPr>
              <a:t>   </a:t>
            </a:r>
            <a:r>
              <a:rPr b="1" lang="en-US" sz="2400" spc="-1" strike="noStrike">
                <a:solidFill>
                  <a:srgbClr val="ffcc00"/>
                </a:solidFill>
                <a:latin typeface="Arial Black"/>
              </a:rPr>
              <a:t>Zdravstvena organizacija, druga organizacija udruženog rada i nadležni organ uprave koji u okviru svoje delatnosti, odnosno nadležnosti vode propisane evidencije, dužni su da, u rokovima određenim propisima o statističkim istraživanjima, propisima o zdravstvenoj zaštiti, propisima o zaštiti stanovništva od zaraznih bolesti i drugim propisima, dostavljaju propisane izveštaje zavodu za zaštitu zdravlja koji vrši delatnost za područje samoupravne interesne zajednice zdravstvene zaštite osnovane za područje međuopštinske regionalne zajednice, odnosno za teritoriju grada Beograda (dalje: zavod).</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I</a:t>
            </a:r>
            <a:r>
              <a:rPr b="1" lang="sr-Latn-RS" sz="2600" spc="-1" strike="noStrike">
                <a:solidFill>
                  <a:srgbClr val="ffcc00"/>
                </a:solidFill>
                <a:latin typeface="Arial Black"/>
              </a:rPr>
              <a:t>V </a:t>
            </a:r>
            <a:r>
              <a:rPr b="1" lang="en-US" sz="2600" spc="-1" strike="noStrike">
                <a:solidFill>
                  <a:srgbClr val="ffcc00"/>
                </a:solidFill>
                <a:latin typeface="Arial Black"/>
              </a:rPr>
              <a:t>DOSTAVLJANJE IZVEŠTAJA</a:t>
            </a: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cc00"/>
                </a:solidFill>
                <a:latin typeface="Arial Black"/>
              </a:rPr>
              <a:t>   </a:t>
            </a:r>
            <a:endParaRPr b="0" lang="en-US" sz="18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11</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Zavod ima pravo i dužnost da u zdravstvenim organizacijama iz stava 1. ovog člana kontroliše stručnu ispravnost vođenja propisanih evidencija, primene propisane metodologije i tačnost evidentiranih podataka, i kada utvrdi neku neispravnost ili netačnost, ukaže zdravstvenoj organizaciji na njih i zahteva u određenom roku njihovo otklanjanje, odnosno ispravku.</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Zdravstvena organizacija je dužna da postupi po zahtevu zavoda iz stava 2. ovog člana, a ako ne postupi zavod će o tome obavestiti organ uprave nadležan za poslove zdravlja koji vrši nadzor nad zakonitošću rada te zdravstvene organizacije.</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I</a:t>
            </a:r>
            <a:r>
              <a:rPr b="1" lang="sr-Latn-RS" sz="2600" spc="-1" strike="noStrike">
                <a:solidFill>
                  <a:srgbClr val="ffcc00"/>
                </a:solidFill>
                <a:latin typeface="Arial Black"/>
              </a:rPr>
              <a:t>V </a:t>
            </a:r>
            <a:r>
              <a:rPr b="1" lang="en-US" sz="2600" spc="-1" strike="noStrike">
                <a:solidFill>
                  <a:srgbClr val="ffcc00"/>
                </a:solidFill>
                <a:latin typeface="Arial Black"/>
              </a:rPr>
              <a:t>DOSTAVLJANJE IZVEŠTAJA</a:t>
            </a: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ffcc00"/>
                </a:solidFill>
                <a:latin typeface="Arial Black"/>
              </a:rPr>
              <a:t>   </a:t>
            </a:r>
            <a:endParaRPr b="0" lang="en-US" sz="18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12</a:t>
            </a: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fcc00"/>
                </a:solidFill>
                <a:latin typeface="Arial Black"/>
              </a:rPr>
              <a:t>   </a:t>
            </a:r>
            <a:r>
              <a:rPr b="1" lang="en-US" sz="2400" spc="-1" strike="noStrike">
                <a:solidFill>
                  <a:srgbClr val="ffcc00"/>
                </a:solidFill>
                <a:latin typeface="Arial Black"/>
              </a:rPr>
              <a:t>Zdravstvena organizacija dužna je da zavodu do 15. jula odnosno 15. januara dostavi sledeće polugodišnje izveštaje o:</a:t>
            </a: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1. delatnostima savetovališta i sistematskim i kontrolnim pregledima;</a:t>
            </a: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2. kućnoj nezi i lečenju;</a:t>
            </a: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3. radnicima obuhvaćenim redovnom kontrolom koji rade na poslovima i zadacima pod posebnim uslovima rada;</a:t>
            </a: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4. radnicima obolelim od profesionalnih bolesti;</a:t>
            </a: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5. stomatološkoj zaštiti dece predškolskog i školskog uzrasta;</a:t>
            </a:r>
            <a:endParaRPr b="0" lang="en-US" sz="2400" spc="-1" strike="noStrike">
              <a:solidFill>
                <a:srgbClr val="ffcc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6. privremenoj nesposobnosti - sprečenosti za rad, razvrstano po uzrocima odsustvovanja sa posl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fcc00"/>
                </a:solidFill>
                <a:latin typeface="Arial Black"/>
              </a:rPr>
              <a:t> </a:t>
            </a:r>
            <a:r>
              <a:rPr b="1" lang="en-US" sz="2400" spc="-1" strike="noStrike">
                <a:solidFill>
                  <a:srgbClr val="ffcc00"/>
                </a:solidFill>
                <a:latin typeface="Arial Black"/>
              </a:rPr>
              <a:t>7. dužini boravka i broju stacioniranih lica sa područja na kome dom zdravlja obavlja zdravstvenu delatnost;</a:t>
            </a:r>
            <a:endParaRPr b="0" lang="en-US" sz="24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8. broju i vrsti izvršenih operacija po odeljenjima odnosno službama;</a:t>
            </a:r>
            <a:endParaRPr b="0" lang="en-US" sz="24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9. licima lečenim u intenzivnoj nezi;</a:t>
            </a:r>
            <a:endParaRPr b="0" lang="en-US" sz="24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10. prvim i ponovnim specijalističkim i ambulantno-polikliničkim pregledima u stacionarnoj zdravstvenoj organizaciji;</a:t>
            </a:r>
            <a:endParaRPr b="0" lang="en-US" sz="24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11. deci sa smetnjama u psihofizičkom razvoju;</a:t>
            </a:r>
            <a:endParaRPr b="0" lang="en-US" sz="24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12. licima obuhvaćenim procesom rehabilitacije;</a:t>
            </a:r>
            <a:endParaRPr b="0" lang="en-US" sz="24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13. izdatoj opremi za sprečavanje iščašenja kuka novorođenoj deci.</a:t>
            </a:r>
            <a:endParaRPr b="0" lang="en-US" sz="2400" spc="-1" strike="noStrike">
              <a:solidFill>
                <a:srgbClr val="ffcc00"/>
              </a:solidFill>
              <a:latin typeface="Arial Black"/>
            </a:endParaRPr>
          </a:p>
          <a:p>
            <a:pPr marL="343080" indent="-343080" algn="just">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Izveštaje iz stava 1. ovog člana, tač. 1, 2, 3, 4, 5, 6, 7, 11, 12. i 13. dostavlja dom zdravlja, a izveštaje iz tač. 8, 9. i 10. stacionarna zdravstvena organizacija.</a:t>
            </a:r>
            <a:endParaRPr b="0" lang="en-US" sz="2400" spc="-1" strike="noStrike">
              <a:solidFill>
                <a:srgbClr val="ffcc00"/>
              </a:solidFill>
              <a:latin typeface="Arial Black"/>
            </a:endParaRPr>
          </a:p>
          <a:p>
            <a:pPr marL="343080" indent="-343080" algn="just">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Izveštaji iz stava 1. ovog člana podnose se po oblastima zdravstvene zaštite, odnosno po bolničkim odeljenjima ili službam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13</a:t>
            </a:r>
            <a:endParaRPr b="0" lang="en-US" sz="24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343080" algn="just">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Stacionarna zdravstvena organizacija dužna je da, licu koje se u njoj nalazilo na lečenju, porođaju ili rehabilitaciji, prilikom otpusta, izda otpusnu listu sa epikrizom.</a:t>
            </a:r>
            <a:endParaRPr b="0" lang="en-US" sz="24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lgn="just">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U roku od trideset dana od dana otpusta, jedan primerak otpusne liste sa epikrizom, zdravstvena organizacija iz stava 1. ovog člana dužna je neposredno da dostavi domu zdravlja na čijoj teritoriji je prebivalište, odnosno mesto rada lečenog lica, odnosno porodilje. U otpusnoj listi sa epikrizom za lice koje se nalazilo na porođaju, obavezno se unosi i podatak da li je za novorođeno dete izdata oprema za sprečavanje iščašenja kuk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301320"/>
            <a:ext cx="8686800" cy="267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ZAKON O EVIDENCIJAMA U OBLASTI ZDRAVSTVENE ZAŠTITE</a:t>
            </a:r>
            <a:br>
              <a:rPr sz="2400"/>
            </a:br>
            <a:br>
              <a:rPr sz="2400"/>
            </a:br>
            <a:r>
              <a:rPr b="1" lang="en-US" sz="2400" spc="-1" strike="noStrike">
                <a:solidFill>
                  <a:srgbClr val="ffcc00"/>
                </a:solidFill>
                <a:latin typeface="Arial Black"/>
              </a:rPr>
              <a:t>("Sl. glasnik RS", br. 14/81, 24/85, 26/85, 6/89 i "Sl. glasnik RS", br. 44/91, 53/93, 67/93, 48/94 i</a:t>
            </a:r>
            <a:r>
              <a:rPr b="1" lang="sr-Latn-RS" sz="2400" spc="-1" strike="noStrike">
                <a:solidFill>
                  <a:srgbClr val="ffcc00"/>
                </a:solidFill>
                <a:latin typeface="Arial Black"/>
              </a:rPr>
              <a:t> </a:t>
            </a:r>
            <a:r>
              <a:rPr b="1" lang="en-US" sz="2400" spc="-1" strike="noStrike">
                <a:solidFill>
                  <a:srgbClr val="ffcc00"/>
                </a:solidFill>
                <a:latin typeface="Arial Black"/>
              </a:rPr>
              <a:t>101/2005 - dr. zakon)</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53" name="PlaceHolder 2"/>
          <p:cNvSpPr>
            <a:spLocks noGrp="1"/>
          </p:cNvSpPr>
          <p:nvPr>
            <p:ph/>
          </p:nvPr>
        </p:nvSpPr>
        <p:spPr>
          <a:xfrm>
            <a:off x="609480" y="2971440"/>
            <a:ext cx="7772400" cy="38862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I OP</a:t>
            </a:r>
            <a:r>
              <a:rPr b="1" lang="sr-Latn-RS" sz="2400" spc="-1" strike="noStrike">
                <a:solidFill>
                  <a:srgbClr val="ffcc00"/>
                </a:solidFill>
                <a:latin typeface="Arial Black"/>
              </a:rPr>
              <a:t>ŠTE</a:t>
            </a:r>
            <a:r>
              <a:rPr b="1" lang="en-US" sz="2400" spc="-1" strike="noStrike">
                <a:solidFill>
                  <a:srgbClr val="ffcc00"/>
                </a:solidFill>
                <a:latin typeface="Arial Black"/>
              </a:rPr>
              <a:t> ODREDBE</a:t>
            </a:r>
            <a:r>
              <a:rPr b="1" lang="en-US" sz="1200" spc="-1" strike="noStrike">
                <a:solidFill>
                  <a:srgbClr val="ffcc00"/>
                </a:solidFill>
                <a:latin typeface="Arial Black"/>
              </a:rPr>
              <a:t> </a:t>
            </a: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Član 1 </a:t>
            </a:r>
            <a:endParaRPr b="0" lang="en-US" sz="2200" spc="-1" strike="noStrike">
              <a:solidFill>
                <a:srgbClr val="ffcc00"/>
              </a:solidFill>
              <a:latin typeface="Arial Black"/>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cc00"/>
                </a:solidFill>
                <a:latin typeface="Arial Black"/>
              </a:rPr>
              <a:t>    </a:t>
            </a:r>
            <a:r>
              <a:rPr b="1" lang="sr-Latn-RS" sz="800" spc="-1" strike="noStrike">
                <a:solidFill>
                  <a:srgbClr val="ffcc00"/>
                </a:solidFill>
                <a:latin typeface="Arial Black"/>
              </a:rPr>
              <a:t>    </a:t>
            </a:r>
            <a:r>
              <a:rPr b="1" lang="en-US" sz="2000" spc="-1" strike="noStrike">
                <a:solidFill>
                  <a:srgbClr val="ffcc00"/>
                </a:solidFill>
                <a:latin typeface="Arial Black"/>
              </a:rPr>
              <a:t>Ovim zakonom propisuje se osnovna medicinska dokumentacija i pomoćna sredstva za vođenje evidencija u oblasti zdravstvene zaštite u koje se vrši upisivanje podataka od interesa za celu zemlju i podataka utvrđenih ovim zakonom, određuju se zdravstvene organizacije koje prikupljaju i obrađuju statističke podatke evidentirane u oblasti zdravstvene zaštite i utvrđuju rokovi za dostavljanje propisanih izveštaja i njihovu obradu.</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14</a:t>
            </a:r>
            <a:endParaRPr b="0" lang="en-US" sz="24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ffcc00"/>
                </a:solidFill>
                <a:latin typeface="Arial Black"/>
              </a:rPr>
              <a:t>    </a:t>
            </a:r>
            <a:r>
              <a:rPr b="1" lang="en-US" sz="2200" spc="-1" strike="noStrike">
                <a:solidFill>
                  <a:srgbClr val="ffcc00"/>
                </a:solidFill>
                <a:latin typeface="Arial Black"/>
              </a:rPr>
              <a:t>Zavod, primljene individualne izveštaje i prijave koji se podnose po propisima o statističkim istraživanjima i drugim propisima, dostavlja Republičkom zavodu u roku od deset dana od dana utvrđenog za dostavljanje ovih izveštaja zavodu.</a:t>
            </a:r>
            <a:endParaRPr b="0" lang="en-US" sz="2200" spc="-1" strike="noStrike">
              <a:solidFill>
                <a:srgbClr val="ffcc00"/>
              </a:solidFill>
              <a:latin typeface="Arial Blac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15</a:t>
            </a:r>
            <a:endParaRPr b="0" lang="en-US" sz="24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cc00"/>
                </a:solidFill>
                <a:latin typeface="Arial Black"/>
              </a:rPr>
              <a:t>    </a:t>
            </a:r>
            <a:r>
              <a:rPr b="1" lang="en-US" sz="2200" spc="-1" strike="noStrike">
                <a:solidFill>
                  <a:srgbClr val="ffcc00"/>
                </a:solidFill>
                <a:latin typeface="Arial Black"/>
              </a:rPr>
              <a:t>Zavod, od primljenih periodičnih izveštaja koji se podnose po propisima o statističkim istraživanjima i drugim propisima i periodičnih izveštaja iz člana 12. ovog zakona, sačinjava zbirne polugodišnje i godišnje izveštaje, po opštinama, i dostavlja ih Republičkom zavodu, kao i samoupravnim interesnim zajednicama zdravstvene zaštite osnovanim za teritoriju opštine sa svoga područja (dalje: opštinske zajednice) i samoupravnoj interesnoj zajednici zdravstvene zaštite osnovanoj za područje međuopštinske regionalne zajednice, odnosno za teritoriju grada Beograda (dalje: regionalna zajednica) do 15. avgusta, odnosno 15. februara.</a:t>
            </a:r>
            <a:endParaRPr b="0" lang="en-US" sz="2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16</a:t>
            </a:r>
            <a:endParaRPr b="0" lang="en-US" sz="24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ffcc00"/>
                </a:solidFill>
                <a:latin typeface="Arial Black"/>
              </a:rPr>
              <a:t>    </a:t>
            </a:r>
            <a:r>
              <a:rPr b="1" lang="en-US" sz="2200" spc="-1" strike="noStrike">
                <a:solidFill>
                  <a:srgbClr val="ffcc00"/>
                </a:solidFill>
                <a:latin typeface="Arial Black"/>
              </a:rPr>
              <a:t>Zavod na osnovu prijavljenih oboljenja iz člana 100. Zakona o zdravstvenoj zaštiti ("Službeni glasnik SRS", broj 30/79), sastavlja polugodišnji i godišnji izveštaj o stanju registrovanih bolesnika obolelih od ovih oboljenja i kretanja novootkrivenih bolesnika po oboljenjima i po opštinama, i dostavlja ga Republičkom zavodu, kao i opštinskim zajednicama sa ovoga područja i regionalnoj zajednici, do 15. avgusta, odnosno 15. februara.</a:t>
            </a:r>
            <a:endParaRPr b="0" lang="en-US" sz="22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17</a:t>
            </a:r>
            <a:endParaRPr b="0" lang="en-US" sz="24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cc00"/>
                </a:solidFill>
                <a:latin typeface="Arial Black"/>
              </a:rPr>
              <a:t>    </a:t>
            </a:r>
            <a:r>
              <a:rPr b="1" lang="en-US" sz="2200" spc="-1" strike="noStrike">
                <a:solidFill>
                  <a:srgbClr val="ffcc00"/>
                </a:solidFill>
                <a:latin typeface="Arial Black"/>
              </a:rPr>
              <a:t>Republički zavod vrši obradu individualnih izveštaja i prijava koji se podnose po propisima o statističkim istraživanjima i dužan je da, u rokovima određenim propisima o statističkim istraživanjima od interesa za celu zemlju, podnosi propisane zbirne godišnje izveštaje Saveznom zavodu za zdravstvenu zaštitu.</a:t>
            </a:r>
            <a:endParaRPr b="0" lang="en-US" sz="22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18</a:t>
            </a:r>
            <a:endParaRPr b="0" lang="en-US" sz="24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cc00"/>
                </a:solidFill>
                <a:latin typeface="Arial Black"/>
              </a:rPr>
              <a:t>    </a:t>
            </a:r>
            <a:r>
              <a:rPr b="1" lang="en-US" sz="2200" spc="-1" strike="noStrike">
                <a:solidFill>
                  <a:srgbClr val="ffcc00"/>
                </a:solidFill>
                <a:latin typeface="Arial Black"/>
              </a:rPr>
              <a:t>Republički zavod vrši stručno-metodološku delatnost u oblasti vođenja evidencija i zdravstvene statistike.</a:t>
            </a:r>
            <a:endParaRPr b="0" lang="en-US" sz="2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19</a:t>
            </a:r>
            <a:endParaRPr b="0" lang="en-US" sz="24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cc00"/>
                </a:solidFill>
                <a:latin typeface="Arial Black"/>
              </a:rPr>
              <a:t>    </a:t>
            </a:r>
            <a:r>
              <a:rPr b="1" lang="en-US" sz="2200" spc="-1" strike="noStrike">
                <a:solidFill>
                  <a:srgbClr val="ffcc00"/>
                </a:solidFill>
                <a:latin typeface="Arial Black"/>
              </a:rPr>
              <a:t>Republički zavod na osnovu periodičnih izveštaja primljenih od zavoda sastavlja odgovarajuće zbirne polugodišnje i godišnje izveštaje i dostavlja ih Republičkoj zajednici i republičkom organu uprave nadležnom za poslove zdravlja do 30. septembra, odnosno 15. maja.</a:t>
            </a:r>
            <a:endParaRPr b="0" lang="en-US" sz="2200" spc="-1" strike="noStrike">
              <a:solidFill>
                <a:srgbClr val="ffcc00"/>
              </a:solidFill>
              <a:latin typeface="Arial Black"/>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19a</a:t>
            </a:r>
            <a:endParaRPr b="0" lang="en-US" sz="2400" spc="-1" strike="noStrike">
              <a:solidFill>
                <a:srgbClr val="ffcc00"/>
              </a:solidFill>
              <a:latin typeface="Arial Black"/>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cc00"/>
                </a:solidFill>
                <a:latin typeface="Arial Black"/>
              </a:rPr>
              <a:t>    </a:t>
            </a:r>
            <a:r>
              <a:rPr b="1" lang="en-US" sz="2200" spc="-1" strike="noStrike">
                <a:solidFill>
                  <a:srgbClr val="ffcc00"/>
                </a:solidFill>
                <a:latin typeface="Arial Black"/>
              </a:rPr>
              <a:t>Sredstva za obavljanje poslova iz čl. 17, 18. i 19. ovog zakona, obezbeđuju Republička samoupravna interesna zajednica zdravstvene zaštite i Republička samoupravna interesna zajednica penzijskog i invalidskog osiguranja radnika, u skladu sa samoupravnim sporazumom koji o tome zaključe sa Republičkim zavodom.</a:t>
            </a:r>
            <a:endParaRPr b="0" lang="en-US" sz="2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V KAZNENE ODREDBE</a:t>
            </a:r>
            <a:endParaRPr b="0" lang="en-US" sz="2600" spc="-1" strike="noStrike">
              <a:solidFill>
                <a:srgbClr val="ffcc00"/>
              </a:solidFill>
              <a:latin typeface="Arial Black"/>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20*</a:t>
            </a:r>
            <a:endParaRPr b="0" lang="en-US" sz="24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cc00"/>
                </a:solidFill>
                <a:latin typeface="Arial Black"/>
              </a:rPr>
              <a:t>    </a:t>
            </a:r>
            <a:r>
              <a:rPr b="1" lang="en-US" sz="2400" spc="-1" strike="noStrike">
                <a:solidFill>
                  <a:srgbClr val="ffcc00"/>
                </a:solidFill>
                <a:latin typeface="Arial Black"/>
              </a:rPr>
              <a:t>Novčanom kaznom od 10.000 do 1.000.000 dinara kazniće se za prekršaj zdravstvena organizacija ako:</a:t>
            </a:r>
            <a:endParaRPr b="0" lang="en-US" sz="24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1. u okviru svoje delatnosti ne vodi ili neuredno vodi podatke propisane ovim zakonom (čl. 5. i 6);</a:t>
            </a:r>
            <a:endParaRPr b="0" lang="en-US" sz="24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2. ne vodi ili neuredno vodi osnovnu medicinsku dokumentaciju i pomoćna sredstva za vođenje evidencije propisane ovim zakonom (čl. 7, 8. i 9);</a:t>
            </a:r>
            <a:endParaRPr b="0" lang="en-US" sz="24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3. ne sastavi ili ne podnese propisan izveštaj ili otpusnu listu određenoj organizaciji ili organu, ili ih ne podnese u propisanom roku (čl. 11, 12, 13, 14, 15, 16, 17. i 19).</a:t>
            </a:r>
            <a:endParaRPr b="0" lang="en-US" sz="2400" spc="-1" strike="noStrike">
              <a:solidFill>
                <a:srgbClr val="ffcc00"/>
              </a:solidFill>
              <a:latin typeface="Arial Blac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fcc00"/>
                </a:solidFill>
                <a:latin typeface="Arial Black"/>
              </a:rPr>
              <a:t>    </a:t>
            </a:r>
            <a:r>
              <a:rPr b="1" lang="en-US" sz="2400" spc="-1" strike="noStrike">
                <a:solidFill>
                  <a:srgbClr val="ffcc00"/>
                </a:solidFill>
                <a:latin typeface="Arial Black"/>
              </a:rPr>
              <a:t>Za radnju iz stava 1. ovog člana kazniće se novčanom kaznom od 10.000 do 50.000 dinara i odgovorno lice u zdravstvenoj organizaciji.</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228600" y="304920"/>
            <a:ext cx="876312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Black"/>
              </a:rPr>
              <a:t>V</a:t>
            </a:r>
            <a:r>
              <a:rPr b="1" lang="sr-Latn-RS" sz="2600" spc="-1" strike="noStrike">
                <a:solidFill>
                  <a:srgbClr val="ffcc00"/>
                </a:solidFill>
                <a:latin typeface="Arial Black"/>
              </a:rPr>
              <a:t>I</a:t>
            </a:r>
            <a:r>
              <a:rPr b="1" lang="en-US" sz="2600" spc="-1" strike="noStrike">
                <a:solidFill>
                  <a:srgbClr val="ffcc00"/>
                </a:solidFill>
                <a:latin typeface="Arial Black"/>
              </a:rPr>
              <a:t> PRELAZNE I ZAVRŠNE ODREDBE</a:t>
            </a:r>
            <a:r>
              <a:rPr b="0" lang="en-US" sz="2000" spc="-1" strike="noStrike">
                <a:solidFill>
                  <a:srgbClr val="ffcc00"/>
                </a:solidFill>
                <a:latin typeface="Arial Black"/>
              </a:rPr>
              <a:t> </a:t>
            </a:r>
            <a:endParaRPr b="0" lang="en-US" sz="2000" spc="-1" strike="noStrike">
              <a:solidFill>
                <a:srgbClr val="ffcc00"/>
              </a:solidFill>
              <a:latin typeface="Arial Black"/>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Član 21</a:t>
            </a: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Republički organ uprave nadležan za poslove zdravlja doneće propise iz člana 10. ovog zakona, a Republički zavod propise iz člana 4. stav 2. ovog zakona u roku od 60 dana od dana njegovog stupanja na snagu.</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Član 22</a:t>
            </a: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Do početka primene ovog zakona evidencije u oblasti zdravstvene zaštite vodiće se na obrascima predviđenim Pravilnikom o medicinskoj dokumentaciji, evidencijama i izveštajima zdravstvenih ustanova ("Službeni list SFRJ", broj 50/65).</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Član 23</a:t>
            </a: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Tridesetog juna 1981. godine prestaje da važi Zakon o evidencijama u oblasti zdravstvene zaštite ("Službeni glasnik SRS", br. 47/74 i 10/78).</a:t>
            </a:r>
            <a:endParaRPr b="0" lang="en-US" sz="2000" spc="-1" strike="noStrike">
              <a:solidFill>
                <a:srgbClr val="ffcc00"/>
              </a:solidFill>
              <a:latin typeface="Arial Black"/>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Član 24</a:t>
            </a:r>
            <a:endParaRPr b="0" lang="en-US" sz="2000" spc="-1" strike="noStrike">
              <a:solidFill>
                <a:srgbClr val="ffcc00"/>
              </a:solidFill>
              <a:latin typeface="Arial Black"/>
            </a:endParaRPr>
          </a:p>
          <a:p>
            <a:pPr marL="343080" indent="-343080" algn="just">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Ovaj zakon stupa na snagu osmog dana od dana objavljivanja u "Službenom glasniku Socijalističke Republike Srbije", a primenjivaće se od 1. jula 1981. godine.</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Član 2 </a:t>
            </a:r>
            <a:endParaRPr b="0" lang="en-US" sz="2800" spc="-1" strike="noStrike">
              <a:solidFill>
                <a:srgbClr val="ffcc00"/>
              </a:solidFill>
              <a:latin typeface="Arial Black"/>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cc00"/>
              </a:solidFill>
              <a:latin typeface="Arial Black"/>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Evidencije u oblasti zdravstvene zaštite (dalje: evidencije) služe za praćenje i proučavanje zdravstvenog stanja stanovništva, za planiranje i programiranje zdravstvene zaštite, za praćenje i ocenjivanje sprovođenja planova i programa zdravstvene zaštite za statistička i naučna istraživanja u oblasti zdravstvene zaštite i druge svrhe.</a:t>
            </a:r>
            <a:endParaRPr b="0" lang="en-US" sz="2400" spc="-1" strike="noStrike">
              <a:solidFill>
                <a:srgbClr val="ffcc00"/>
              </a:solidFill>
              <a:latin typeface="Arial Black"/>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Član 3</a:t>
            </a:r>
            <a:endParaRPr b="0" lang="en-US" sz="2800" spc="-1" strike="noStrike">
              <a:solidFill>
                <a:srgbClr val="ffcc00"/>
              </a:solidFill>
              <a:latin typeface="Arial Black"/>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ffcc00"/>
                </a:solidFill>
                <a:latin typeface="Arial Black"/>
              </a:rPr>
              <a:t>   </a:t>
            </a:r>
            <a:r>
              <a:rPr b="0" lang="en-US" sz="2400" spc="-1" strike="noStrike">
                <a:solidFill>
                  <a:srgbClr val="ffcc00"/>
                </a:solidFill>
                <a:latin typeface="Arial Black"/>
              </a:rPr>
              <a:t>Vođenje evidencija, sastavljanje i dostavljanje propisanih izveštaja sastavni je deo stručnog medicinskog rada zdravstvenih organizacija.</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Član </a:t>
            </a:r>
            <a:r>
              <a:rPr b="0" lang="sr-Latn-RS" sz="2800" spc="-1" strike="noStrike">
                <a:solidFill>
                  <a:srgbClr val="ffcc00"/>
                </a:solidFill>
                <a:latin typeface="Arial Black"/>
              </a:rPr>
              <a:t>4</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ffcc00"/>
                </a:solidFill>
                <a:latin typeface="Arial Black"/>
              </a:rPr>
              <a:t>   </a:t>
            </a:r>
            <a:r>
              <a:rPr b="0" lang="en-US" sz="2400" spc="-1" strike="noStrike">
                <a:solidFill>
                  <a:srgbClr val="ffcc00"/>
                </a:solidFill>
                <a:latin typeface="Arial Black"/>
              </a:rPr>
              <a:t>Pri vođenju evidencija, sastavljanju i dostavljanju propisanih izveštaja, primenjuju se jedinstveni metodološki principi i statistički standardi za vođenje evidencije propisani saveznim propisom i propisom donetim na osnovu ovog zakona.</a:t>
            </a:r>
            <a:endParaRPr b="0" lang="en-US" sz="2400" spc="-1" strike="noStrike">
              <a:solidFill>
                <a:srgbClr val="ffcc00"/>
              </a:solidFill>
              <a:latin typeface="Arial Black"/>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ffcc00"/>
                </a:solidFill>
                <a:latin typeface="Arial Black"/>
              </a:rPr>
              <a:t>   </a:t>
            </a:r>
            <a:r>
              <a:rPr b="0" lang="en-US" sz="2400" spc="-1" strike="noStrike">
                <a:solidFill>
                  <a:srgbClr val="ffcc00"/>
                </a:solidFill>
                <a:latin typeface="Arial Black"/>
              </a:rPr>
              <a:t>Jedinstvene metodološke principe i statističke standarde za evidentiranje podataka, sastavljanje i dostavljanje izveštaja propisanih ovim zakonom, propisuje Zavod za zaštitu zdravlja Socijalističke Republike Srbije (dalje: Republički zavod).</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Arial Black"/>
              </a:rPr>
              <a:t>I</a:t>
            </a:r>
            <a:r>
              <a:rPr b="1" lang="sr-Latn-RS" sz="2700" spc="-1" strike="noStrike">
                <a:solidFill>
                  <a:srgbClr val="ffcc00"/>
                </a:solidFill>
                <a:latin typeface="Arial Black"/>
              </a:rPr>
              <a:t>I </a:t>
            </a:r>
            <a:r>
              <a:rPr b="1" lang="en-US" sz="2700" spc="-1" strike="noStrike">
                <a:solidFill>
                  <a:srgbClr val="ffcc00"/>
                </a:solidFill>
                <a:latin typeface="Arial Black"/>
              </a:rPr>
              <a:t>PODACI OD INTERESA ZA REPUBLIKU</a:t>
            </a:r>
            <a:r>
              <a:rPr b="0" lang="en-US" sz="2400" spc="-1" strike="noStrike">
                <a:solidFill>
                  <a:srgbClr val="ffcc00"/>
                </a:solidFill>
                <a:latin typeface="Arial Black"/>
              </a:rPr>
              <a:t> </a:t>
            </a:r>
            <a:endParaRPr b="0" lang="en-US" sz="2400" spc="-1" strike="noStrike">
              <a:solidFill>
                <a:srgbClr val="ffcc00"/>
              </a:solidFill>
              <a:latin typeface="Arial Black"/>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Član </a:t>
            </a:r>
            <a:r>
              <a:rPr b="1" lang="sr-Latn-RS" sz="2800" spc="-1" strike="noStrike">
                <a:solidFill>
                  <a:srgbClr val="ffcc00"/>
                </a:solidFill>
                <a:latin typeface="Arial Black"/>
              </a:rPr>
              <a:t>5</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fcc00"/>
                </a:solidFill>
                <a:latin typeface="Arial Black"/>
              </a:rPr>
              <a:t>   </a:t>
            </a:r>
            <a:r>
              <a:rPr b="1" lang="en-US" sz="2400" spc="-1" strike="noStrike">
                <a:solidFill>
                  <a:srgbClr val="ffcc00"/>
                </a:solidFill>
                <a:latin typeface="Arial Black"/>
              </a:rPr>
              <a:t>U evidenciji o posetama zdravstvenim uslugama, utvrđenim oboljenjima, stanjima i povredama, ustanovljenoj Zakonom o evidencijama u oblasti zdravstva ("Službeni list SFRJ", broj 28/78) podatak o trajanju privremene nesposobnosti, odnosno sprečenosti za rad, računajući od prvog dana privremene nesposobnosti posebno se vodi i to zbog:</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1. bolesti i povrede (osim povrede na radu),</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2. povrede na radu,</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3. trudnoće i porođaja,</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4. nege obolelog člana porodice.</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I</a:t>
            </a:r>
            <a:r>
              <a:rPr b="1" lang="sr-Latn-RS" sz="2800" spc="-1" strike="noStrike">
                <a:solidFill>
                  <a:srgbClr val="ffcc00"/>
                </a:solidFill>
                <a:latin typeface="Arial Black"/>
              </a:rPr>
              <a:t>I </a:t>
            </a:r>
            <a:r>
              <a:rPr b="1" lang="en-US" sz="2800" spc="-1" strike="noStrike">
                <a:solidFill>
                  <a:srgbClr val="ffcc00"/>
                </a:solidFill>
                <a:latin typeface="Arial Black"/>
              </a:rPr>
              <a:t>PODACI OD INTERESA ZA REPUBLIKU</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Član </a:t>
            </a:r>
            <a:r>
              <a:rPr b="1" lang="sr-Latn-RS" sz="2800" spc="-1" strike="noStrike">
                <a:solidFill>
                  <a:srgbClr val="ffcc00"/>
                </a:solidFill>
                <a:latin typeface="Arial Black"/>
              </a:rPr>
              <a:t>6</a:t>
            </a:r>
            <a:endParaRPr b="0" lang="en-US" sz="28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fcc00"/>
                </a:solidFill>
                <a:latin typeface="Arial Black"/>
              </a:rPr>
              <a:t>   </a:t>
            </a:r>
            <a:r>
              <a:rPr b="1" lang="en-US" sz="2400" spc="-1" strike="noStrike">
                <a:solidFill>
                  <a:srgbClr val="ffcc00"/>
                </a:solidFill>
                <a:latin typeface="Arial Black"/>
              </a:rPr>
              <a:t>U evidencijama u koje se upisuju opšti podaci od interesa za celu zemlju, o pregledanim, obolelim, povređenim, lečenim i drugim licima kojima je pružena zdravstvena zaštita, upisuju se i sledeći opšti podaci:</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1. prezime i ime lica od koga se izvodi pravo na zdravstvenu zaštitu,</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2. ime jednog od roditelja,</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3. matični broj građana.</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I</a:t>
            </a:r>
            <a:r>
              <a:rPr b="1" lang="sr-Latn-RS" sz="2200" spc="-1" strike="noStrike">
                <a:solidFill>
                  <a:srgbClr val="ffcc00"/>
                </a:solidFill>
                <a:latin typeface="Arial Black"/>
              </a:rPr>
              <a:t>II </a:t>
            </a:r>
            <a:r>
              <a:rPr b="1" lang="en-US" sz="2200" spc="-1" strike="noStrike">
                <a:solidFill>
                  <a:srgbClr val="ffcc00"/>
                </a:solidFill>
                <a:latin typeface="Arial Black"/>
              </a:rPr>
              <a:t>OSNOVNA MEDICINSKA DOKUMENTACIJA I POMOĆNA SREDSTVA ZA VOĐENJE EVIDENCIJE</a:t>
            </a:r>
            <a:r>
              <a:rPr b="0" lang="en-US" sz="2200" spc="-1" strike="noStrike">
                <a:solidFill>
                  <a:srgbClr val="ffcc00"/>
                </a:solidFill>
                <a:latin typeface="Arial Black"/>
              </a:rPr>
              <a:t> </a:t>
            </a:r>
            <a:endParaRPr b="0" lang="en-US" sz="2200" spc="-1" strike="noStrike">
              <a:solidFill>
                <a:srgbClr val="ffcc00"/>
              </a:solidFill>
              <a:latin typeface="Arial Blac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Član </a:t>
            </a:r>
            <a:r>
              <a:rPr b="1" lang="sr-Latn-RS" sz="2400" spc="-1" strike="noStrike">
                <a:solidFill>
                  <a:srgbClr val="ffcc00"/>
                </a:solidFill>
                <a:latin typeface="Arial Black"/>
              </a:rPr>
              <a:t>7</a:t>
            </a:r>
            <a:endParaRPr b="0" lang="en-US" sz="24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ffcc00"/>
                </a:solidFill>
                <a:latin typeface="Arial Black"/>
              </a:rPr>
              <a:t>    </a:t>
            </a:r>
            <a:r>
              <a:rPr b="1" lang="en-US" sz="2000" spc="-1" strike="noStrike">
                <a:solidFill>
                  <a:srgbClr val="ffcc00"/>
                </a:solidFill>
                <a:latin typeface="Arial Black"/>
              </a:rPr>
              <a:t>Evidencije se vode upisivanjem podataka u osnovnu medicinsku dokumentaciju i pomoćna sredstva za vođenje evidencija.</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Osnovnu medicinsku dokumentaciju čine:</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 zdravstveni karton,</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 protokol bolesnika,</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3. protokol za registrovanje rezultata medicinskog rada, operisanih i umrlih,</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4. matična knjiga lica smeštenih u stacionarnoj zdravstvenoj organizaciji,</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5. istorija bolesti,</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6. temperaturno-terapijsko-dijetetska lista,</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7. otpusna lista sa epikrizo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8. list anestezije,</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9. knjiga evidencije,</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0. karton o potrošnji leka.</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I</a:t>
            </a:r>
            <a:r>
              <a:rPr b="1" lang="sr-Latn-RS" sz="2400" spc="-1" strike="noStrike">
                <a:solidFill>
                  <a:srgbClr val="ffcc00"/>
                </a:solidFill>
                <a:latin typeface="Arial Black"/>
              </a:rPr>
              <a:t>II </a:t>
            </a:r>
            <a:r>
              <a:rPr b="1" lang="en-US" sz="2400" spc="-1" strike="noStrike">
                <a:solidFill>
                  <a:srgbClr val="ffcc00"/>
                </a:solidFill>
                <a:latin typeface="Arial Black"/>
              </a:rPr>
              <a:t>OSNOVNA MEDICINSKA DOKUMENTACIJA I POMOĆNA SREDSTVA ZA VOĐENJE EVIDENCIJE</a:t>
            </a:r>
            <a:r>
              <a:rPr b="0" lang="en-US" sz="2200" spc="-1" strike="noStrike">
                <a:solidFill>
                  <a:srgbClr val="ffcc00"/>
                </a:solidFill>
                <a:latin typeface="Arial Black"/>
              </a:rPr>
              <a:t> </a:t>
            </a:r>
            <a:endParaRPr b="0" lang="en-US" sz="2200" spc="-1" strike="noStrike">
              <a:solidFill>
                <a:srgbClr val="ffcc00"/>
              </a:solidFill>
              <a:latin typeface="Arial Blac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Pomoćna sredstva za vođenje evidencije čine:</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 registar kartoteke,</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 dnevna evidencija o posetama i radu,</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3. tekuća evidencija o utvrđenim oboljenjima i stanjima,</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4. dnevna evidencija o kretanju bolesnika u bolnici - stacionaru.</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Član 8</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Zdravstvene organizacije vode osnovnu medicinsku dokumentaciju, i to:</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1. zdravstveni karton - dom zdravlja po oblastima zdravstvene zaštite, za svako lice kome pruža zdravstvenu zaštitu, izuzev za prolazne bolesnike;</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 protokol bolesnika - zdravstvena organizacija za prolazne bolesnike;</a:t>
            </a: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304920" y="304920"/>
            <a:ext cx="8686800" cy="632448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3. protokol za registrovanje rezultata medicinskog rada - zdravstvena organizacija koja obavlja zdravstvenu delatnost u oblasti: laboratorijske dijagnostike; rendgen dijagnostike; kućne nege i lečenja; hitne medicinske pomoći; zdravstvenog vaspitanja i drugim oblastima zdravstvene zaštite u kojima se rezultati medicinskog rada ne registruju u zdravstvenom kartonu, kao i zdravstvena organizacija koja ima službu intervencija; kliničke patologije i za vršenje obdukcije;</a:t>
            </a:r>
            <a:endParaRPr b="0" lang="en-US" sz="22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4. matičnu knjigu lica smeštenih u stacionarnoj zdravstvenoj organizaciji - stacionarna zdravstvena organizacija, i to od matičnih listova, koji se vode za svako lice koje se nalazi na stacionarnom lečenju, porođaju ili rehabilitaciji, kao kopija istorije bolesti;</a:t>
            </a:r>
            <a:endParaRPr b="0" lang="en-US" sz="2200" spc="-1" strike="noStrike">
              <a:solidFill>
                <a:srgbClr val="ffcc00"/>
              </a:solidFill>
              <a:latin typeface="Arial Black"/>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Black"/>
              </a:rPr>
              <a:t>5. istoriju bolesti, temperaturno-terapijsko-dijetetsku listu, otpusnu listu sa epikrizom, protokol operisanih, list anestezije i protokol umrlih - zdravstvena organizacija za lica koja se u njoj nalaze na stacionarnom lečenju, porođaju, ili rehabilitaciji;</a:t>
            </a:r>
            <a:endParaRPr b="0" lang="en-US" sz="2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9:53:43Z</dcterms:created>
  <dc:creator>Petra i Zorana</dc:creator>
  <dc:description/>
  <dc:language>en-US</dc:language>
  <cp:lastModifiedBy>Petra i Zorana</cp:lastModifiedBy>
  <dcterms:modified xsi:type="dcterms:W3CDTF">2011-03-06T22:35:09Z</dcterms:modified>
  <cp:revision>97</cp:revision>
  <dc:subject/>
  <dc:title>Zakon o javnom zdravlju </dc:title>
</cp:coreProperties>
</file>